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E6C-7437-4A0A-B9D9-085C2753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271-B4F8-4E12-B78F-7F29977E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F04-F62B-4D4D-8F95-324DA168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7D7-0E53-49C7-BE30-4BE4F3F1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5A7B-46B0-4A68-A00D-D28DE0B4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5569-6731-43F9-B535-7ADA0CA7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B27-6C8A-4BA8-A1EB-AF19D6B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315-6F7E-4B09-B790-5C6CF364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45C-3761-402C-B35D-A05D40F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7068-8FE0-4480-BE0B-6A71DFE9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6020-DCDD-4934-B7F0-C12B3C5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D17-AD11-4AD5-A025-C8E386BD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EF2F-2404-4E05-983B-6FABC89D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A369-3036-4EDB-AD00-99DE34D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37B9-3EA7-4F7F-AE86-A4175EBC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BDC3-AC66-4F59-920D-F392946D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A811-130B-4522-9697-0F8EE3F4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29E-DC21-4E99-BA4D-4362E8F3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5FC-385E-4459-A089-C800F7C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4BC-4755-4C09-8A8C-2D5306D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BBA-1738-4222-AE3E-D0711042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FC6-7ADA-4184-A65B-25F93FFB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3CC-E562-4711-B93A-ADB7D82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3FF-3699-4CA7-9D40-A10A3EC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30F1-3505-4817-AC69-3D4584519F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6F22-C934-4172-BB4E-01D3889611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20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18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6.xml"/><Relationship Id="rId14" Type="http://schemas.openxmlformats.org/officeDocument/2006/relationships/slide" Target="slide14.xml"/><Relationship Id="rId15" Type="http://schemas.openxmlformats.org/officeDocument/2006/relationships/slide" Target="slide13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еловая игра «Аукцио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: Бухгалтерский бал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диторская задолженность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АСС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11280" y="2852640"/>
            <a:ext cx="6732720" cy="4005360"/>
            <a:chOff x="2411280" y="2852640"/>
            <a:chExt cx="6732720" cy="4005360"/>
          </a:xfrm>
        </p:grpSpPr>
        <p:pic>
          <p:nvPicPr>
            <p:cNvPr id="197" name="" descr="&amp;Rcy;&amp;acy;&amp;bcy;&amp;ocy;&amp;tcy;&amp;ocy;&amp;dcy;&amp;acy;&amp;tcy;&amp;iecy;&amp;lcy;&amp;icy; &amp;zcy;&amp;acy;&amp;dcy;&amp;ocy;&amp;lcy;&amp;zhcy;&amp;acy;&amp;lcy;&amp;icy; &amp;kcy;&amp;acy;&amp;lcy;&amp;ucy;&amp;zhcy;&amp;acy;&amp;ncy;&amp;acy;&amp;mcy; 89 &amp;mcy;&amp;icy;&amp;lcy;&amp;lcy;&amp;icy;&amp;ocy;&amp;ncy;&amp;ocy;&amp;vcy; &amp;rcy;&amp;ucy;&amp;bcy;&amp;lcy;&amp;iecy;&amp;jcy;"/>
            <p:cNvPicPr/>
            <p:nvPr/>
          </p:nvPicPr>
          <p:blipFill>
            <a:blip r:embed="rId2"/>
            <a:stretch/>
          </p:blipFill>
          <p:spPr>
            <a:xfrm>
              <a:off x="5543640" y="4157640"/>
              <a:ext cx="36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411280" y="2852640"/>
              <a:ext cx="655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Кред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долг подлежащий опла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01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не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лучены денежные средства с расчетного счета в кассу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08000" y="3500280"/>
            <a:ext cx="7236000" cy="3357720"/>
            <a:chOff x="1908000" y="3500280"/>
            <a:chExt cx="7236000" cy="3357720"/>
          </a:xfrm>
        </p:grpSpPr>
        <p:pic>
          <p:nvPicPr>
            <p:cNvPr id="206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3780000" y="3500280"/>
              <a:ext cx="5364000" cy="3157560"/>
              <a:chOff x="3780000" y="3500280"/>
              <a:chExt cx="5364000" cy="3157560"/>
            </a:xfrm>
          </p:grpSpPr>
          <p:sp>
            <p:nvSpPr>
              <p:cNvPr id="208" name=""/>
              <p:cNvSpPr/>
              <p:nvPr/>
            </p:nvSpPr>
            <p:spPr>
              <a:xfrm>
                <a:off x="5867280" y="3500280"/>
                <a:ext cx="119700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66"/>
                    </a:solidFill>
                    <a:latin typeface="Arial"/>
                  </a:rPr>
                  <a:t>I</a:t>
                </a:r>
                <a:r>
                  <a:rPr b="0" lang="ru-RU" sz="3200" spc="-1" strike="noStrike">
                    <a:solidFill>
                      <a:srgbClr val="660066"/>
                    </a:solidFill>
                    <a:latin typeface="Arial"/>
                  </a:rPr>
                  <a:t> ти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7920" y="4653000"/>
                <a:ext cx="3556080" cy="20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780000" y="4005360"/>
                <a:ext cx="2808000" cy="647640"/>
              </a:xfrm>
              <a:custGeom>
                <a:avLst/>
                <a:gdLst>
                  <a:gd name="textAreaLeft" fmla="*/ 491400 w 2808000"/>
                  <a:gd name="textAreaRight" fmla="*/ 2035800 w 2808000"/>
                  <a:gd name="textAreaTop" fmla="*/ 86760 h 647640"/>
                  <a:gd name="textAreaBottom" fmla="*/ 5608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1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счет нераспределенной прибыли сформирован резервный капи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не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484360" y="3716280"/>
            <a:ext cx="6480360" cy="3141720"/>
            <a:chOff x="2484360" y="3716280"/>
            <a:chExt cx="6480360" cy="3141720"/>
          </a:xfrm>
        </p:grpSpPr>
        <p:pic>
          <p:nvPicPr>
            <p:cNvPr id="218" name="" descr="Картинки по запросу прибыль картинки"/>
            <p:cNvPicPr/>
            <p:nvPr/>
          </p:nvPicPr>
          <p:blipFill>
            <a:blip r:embed="rId2"/>
            <a:stretch/>
          </p:blipFill>
          <p:spPr>
            <a:xfrm>
              <a:off x="2627280" y="4352760"/>
              <a:ext cx="1828800" cy="25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Картинки по запросу прибыль картинки"/>
            <p:cNvPicPr/>
            <p:nvPr/>
          </p:nvPicPr>
          <p:blipFill>
            <a:blip r:embed="rId3"/>
            <a:stretch/>
          </p:blipFill>
          <p:spPr>
            <a:xfrm>
              <a:off x="6877080" y="5473800"/>
              <a:ext cx="9777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484360" y="3716280"/>
              <a:ext cx="32130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Нераспределенная прибы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4797360"/>
              <a:ext cx="30974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Резервный капит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2720" y="3860640"/>
              <a:ext cx="12697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I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089600">
              <a:off x="4284720" y="5157720"/>
              <a:ext cx="2201760" cy="486000"/>
            </a:xfrm>
            <a:prstGeom prst="rightArrow">
              <a:avLst>
                <a:gd name="adj1" fmla="val 50000"/>
                <a:gd name="adj2" fmla="val 113259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ecdafc"/>
                </a:gs>
              </a:gsLst>
              <a:lin ang="4308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26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числены на расчетный счет аванс от покупателей, под поставку про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8000" y="3789360"/>
            <a:ext cx="6834240" cy="3068640"/>
            <a:chOff x="1908000" y="3789360"/>
            <a:chExt cx="6834240" cy="3068640"/>
          </a:xfrm>
        </p:grpSpPr>
        <p:pic>
          <p:nvPicPr>
            <p:cNvPr id="231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2627280" y="3789360"/>
              <a:ext cx="6114960" cy="2909880"/>
              <a:chOff x="2627280" y="3789360"/>
              <a:chExt cx="6114960" cy="2909880"/>
            </a:xfrm>
          </p:grpSpPr>
          <p:sp>
            <p:nvSpPr>
              <p:cNvPr id="233" name=""/>
              <p:cNvSpPr/>
              <p:nvPr/>
            </p:nvSpPr>
            <p:spPr>
              <a:xfrm>
                <a:off x="2627280" y="3789360"/>
                <a:ext cx="12700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66"/>
                    </a:solidFill>
                    <a:latin typeface="Arial"/>
                  </a:rPr>
                  <a:t>III</a:t>
                </a:r>
                <a:r>
                  <a:rPr b="0" lang="ru-RU" sz="3200" spc="-1" strike="noStrike">
                    <a:solidFill>
                      <a:srgbClr val="660066"/>
                    </a:solidFill>
                    <a:latin typeface="Arial"/>
                  </a:rPr>
                  <a:t> ти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3"/>
              <a:srcRect l="17876" t="0" r="0" b="0"/>
              <a:stretch/>
            </p:blipFill>
            <p:spPr>
              <a:xfrm>
                <a:off x="5508720" y="4508640"/>
                <a:ext cx="3233520" cy="21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 rot="5400000">
                <a:off x="4423680" y="3290040"/>
                <a:ext cx="1008000" cy="2295360"/>
              </a:xfrm>
              <a:custGeom>
                <a:avLst/>
                <a:gdLst>
                  <a:gd name="textAreaLeft" fmla="*/ 135000 w 1008000"/>
                  <a:gd name="textAreaRight" fmla="*/ 873000 w 1008000"/>
                  <a:gd name="textAreaTop" fmla="*/ 401400 h 2295360"/>
                  <a:gd name="textAreaBottom" fmla="*/ 1664280 h 22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38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8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еречислено с расчетного счета поставщикам за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08000" y="3276720"/>
            <a:ext cx="6936120" cy="3581280"/>
            <a:chOff x="1908000" y="3276720"/>
            <a:chExt cx="6936120" cy="3581280"/>
          </a:xfrm>
        </p:grpSpPr>
        <p:pic>
          <p:nvPicPr>
            <p:cNvPr id="243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867280" y="3500280"/>
              <a:ext cx="1441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V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5796000" y="4365720"/>
              <a:ext cx="30481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80000" y="4005360"/>
              <a:ext cx="2808000" cy="647640"/>
            </a:xfrm>
            <a:custGeom>
              <a:avLst/>
              <a:gdLst>
                <a:gd name="textAreaLeft" fmla="*/ 491400 w 2808000"/>
                <a:gd name="textAreaRight" fmla="*/ 2035800 w 280800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49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ru-RU" sz="3600" spc="-1" strike="noStrike">
                <a:solidFill>
                  <a:srgbClr val="9966ff"/>
                </a:solidFill>
                <a:latin typeface="Arial"/>
              </a:rPr>
              <a:t>ЛОТ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дана из кассы заработная плата работникам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5640" y="3500280"/>
            <a:ext cx="6804000" cy="3232440"/>
            <a:chOff x="2195640" y="3500280"/>
            <a:chExt cx="6804000" cy="3232440"/>
          </a:xfrm>
        </p:grpSpPr>
        <p:sp>
          <p:nvSpPr>
            <p:cNvPr id="255" name=""/>
            <p:cNvSpPr/>
            <p:nvPr/>
          </p:nvSpPr>
          <p:spPr>
            <a:xfrm>
              <a:off x="5867280" y="3500280"/>
              <a:ext cx="1441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V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2195640" y="4724280"/>
              <a:ext cx="28080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80000" y="4005360"/>
              <a:ext cx="2808000" cy="647640"/>
            </a:xfrm>
            <a:custGeom>
              <a:avLst/>
              <a:gdLst>
                <a:gd name="textAreaLeft" fmla="*/ 491400 w 2808000"/>
                <a:gd name="textAreaRight" fmla="*/ 2035800 w 280800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Картинки по запросу выдача заработной платы картинки"/>
            <p:cNvPicPr/>
            <p:nvPr/>
          </p:nvPicPr>
          <p:blipFill>
            <a:blip r:embed="rId4"/>
            <a:stretch/>
          </p:blipFill>
          <p:spPr>
            <a:xfrm>
              <a:off x="5219640" y="4724280"/>
              <a:ext cx="3780000" cy="200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60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ТИ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84360" y="1628640"/>
            <a:ext cx="6372360" cy="2841120"/>
            <a:chOff x="2484360" y="1628640"/>
            <a:chExt cx="6372360" cy="2841120"/>
          </a:xfrm>
        </p:grpSpPr>
        <p:sp>
          <p:nvSpPr>
            <p:cNvPr id="264" name=""/>
            <p:cNvSpPr/>
            <p:nvPr/>
          </p:nvSpPr>
          <p:spPr>
            <a:xfrm>
              <a:off x="2484360" y="1628640"/>
              <a:ext cx="136836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2" action="ppaction://hlinksldjump"/>
                </a:rPr>
                <a:t>ЛО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4360" y="262188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3" action="ppaction://hlinksldjump"/>
                </a:rPr>
                <a:t>ЛОТ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41800" y="370512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4" action="ppaction://hlinksldjump"/>
                </a:rPr>
                <a:t>ЛОТ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41800" y="262188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5" action="ppaction://hlinksldjump"/>
                </a:rPr>
                <a:t>ЛОТ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41800" y="1628640"/>
              <a:ext cx="136836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6" action="ppaction://hlinksldjump"/>
                </a:rPr>
                <a:t>ЛО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7440" y="2621880"/>
              <a:ext cx="1440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7" action="ppaction://hlinksldjump"/>
                </a:rPr>
                <a:t>ЛОТ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7440" y="1628640"/>
              <a:ext cx="144000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8" action="ppaction://hlinksldjump"/>
                </a:rPr>
                <a:t>ЛОТ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7440" y="3705120"/>
              <a:ext cx="1440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9" action="ppaction://hlinksldjump"/>
                </a:rPr>
                <a:t>ЛОТ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24720" y="2621880"/>
              <a:ext cx="1332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0" action="ppaction://hlinksldjump"/>
                </a:rPr>
                <a:t>ЛОТ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4720" y="1628640"/>
              <a:ext cx="133200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1" action="ppaction://hlinksldjump"/>
                </a:rPr>
                <a:t>ЛОТ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340000" y="98100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ется Кредиторская задолж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843280" y="2852640"/>
            <a:ext cx="5788080" cy="3816360"/>
            <a:chOff x="2843280" y="2852640"/>
            <a:chExt cx="5788080" cy="381636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rcRect l="10744" t="9070" r="30715" b="18494"/>
            <a:stretch/>
          </p:blipFill>
          <p:spPr>
            <a:xfrm>
              <a:off x="2843280" y="3573360"/>
              <a:ext cx="5788080" cy="30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276720" y="378936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616572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3280" y="2852640"/>
              <a:ext cx="22780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ПАСС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8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разделе АКТИВА баланса отражается стоимость МП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289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РАЗДЕЛ </a:t>
              </a: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I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. Оборотные акти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9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484360" y="112500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ь объект уче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долженность покупателя за отгруженную ему проду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11280" y="3141720"/>
            <a:ext cx="6553440" cy="3716280"/>
            <a:chOff x="2411280" y="3141720"/>
            <a:chExt cx="6553440" cy="3716280"/>
          </a:xfrm>
        </p:grpSpPr>
        <p:sp>
          <p:nvSpPr>
            <p:cNvPr id="299" name=""/>
            <p:cNvSpPr/>
            <p:nvPr/>
          </p:nvSpPr>
          <p:spPr>
            <a:xfrm>
              <a:off x="2411280" y="3141720"/>
              <a:ext cx="655344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Деб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сумма долгов, причитающаяся предприяти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Картинки по запросу дебиторская задолженность картинки"/>
            <p:cNvPicPr/>
            <p:nvPr/>
          </p:nvPicPr>
          <p:blipFill>
            <a:blip r:embed="rId2"/>
            <a:stretch/>
          </p:blipFill>
          <p:spPr>
            <a:xfrm>
              <a:off x="3635280" y="4565520"/>
              <a:ext cx="3033720" cy="22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0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словия иг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95640" y="1327320"/>
            <a:ext cx="3123720" cy="3901320"/>
            <a:chOff x="2195640" y="1327320"/>
            <a:chExt cx="3123720" cy="3901320"/>
          </a:xfrm>
        </p:grpSpPr>
        <p:cxnSp>
          <p:nvCxnSpPr>
            <p:cNvPr id="90" name="_s9238"/>
            <p:cNvCxnSpPr>
              <a:stCxn id="91" idx="1"/>
              <a:endCxn id="92" idx="2"/>
            </p:cNvCxnSpPr>
            <p:nvPr/>
          </p:nvCxnSpPr>
          <p:spPr>
            <a:xfrm rot="10800000">
              <a:off x="3132000" y="2035800"/>
              <a:ext cx="312840" cy="283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9237"/>
            <p:cNvCxnSpPr>
              <a:stCxn id="94" idx="1"/>
              <a:endCxn id="92" idx="2"/>
            </p:cNvCxnSpPr>
            <p:nvPr/>
          </p:nvCxnSpPr>
          <p:spPr>
            <a:xfrm rot="10800000">
              <a:off x="3132000" y="2035800"/>
              <a:ext cx="312840" cy="17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9236"/>
            <p:cNvCxnSpPr>
              <a:stCxn id="96" idx="1"/>
              <a:endCxn id="92" idx="2"/>
            </p:cNvCxnSpPr>
            <p:nvPr/>
          </p:nvCxnSpPr>
          <p:spPr>
            <a:xfrm rot="10800000">
              <a:off x="3132000" y="2035800"/>
              <a:ext cx="312840" cy="70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9232"/>
            <p:cNvSpPr/>
            <p:nvPr/>
          </p:nvSpPr>
          <p:spPr>
            <a:xfrm>
              <a:off x="2195640" y="132732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ирм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9233"/>
            <p:cNvSpPr/>
            <p:nvPr/>
          </p:nvSpPr>
          <p:spPr>
            <a:xfrm>
              <a:off x="3445200" y="239112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Альф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9234"/>
            <p:cNvSpPr/>
            <p:nvPr/>
          </p:nvSpPr>
          <p:spPr>
            <a:xfrm>
              <a:off x="3445200" y="345528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Бет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9235"/>
            <p:cNvSpPr/>
            <p:nvPr/>
          </p:nvSpPr>
          <p:spPr>
            <a:xfrm>
              <a:off x="3445200" y="451944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Гамм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84720" y="1268280"/>
            <a:ext cx="2879280" cy="3960360"/>
            <a:chOff x="6084720" y="1268280"/>
            <a:chExt cx="2879280" cy="3960360"/>
          </a:xfrm>
        </p:grpSpPr>
        <p:cxnSp>
          <p:nvCxnSpPr>
            <p:cNvPr id="98" name="_s9250"/>
            <p:cNvCxnSpPr>
              <a:stCxn id="99" idx="3"/>
              <a:endCxn id="100" idx="2"/>
            </p:cNvCxnSpPr>
            <p:nvPr/>
          </p:nvCxnSpPr>
          <p:spPr>
            <a:xfrm flipV="1">
              <a:off x="7812000" y="1987920"/>
              <a:ext cx="288360" cy="288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9249"/>
            <p:cNvCxnSpPr>
              <a:stCxn id="102" idx="3"/>
              <a:endCxn id="100" idx="2"/>
            </p:cNvCxnSpPr>
            <p:nvPr/>
          </p:nvCxnSpPr>
          <p:spPr>
            <a:xfrm flipV="1">
              <a:off x="7812000" y="1987560"/>
              <a:ext cx="288360" cy="180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9248"/>
            <p:cNvCxnSpPr>
              <a:stCxn id="104" idx="3"/>
              <a:endCxn id="100" idx="2"/>
            </p:cNvCxnSpPr>
            <p:nvPr/>
          </p:nvCxnSpPr>
          <p:spPr>
            <a:xfrm flipV="1">
              <a:off x="7812000" y="1987920"/>
              <a:ext cx="288360" cy="72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9244"/>
            <p:cNvSpPr/>
            <p:nvPr/>
          </p:nvSpPr>
          <p:spPr>
            <a:xfrm>
              <a:off x="7236360" y="126828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Дочер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фирм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45"/>
            <p:cNvSpPr/>
            <p:nvPr/>
          </p:nvSpPr>
          <p:spPr>
            <a:xfrm>
              <a:off x="6084720" y="234828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ОО «Альфа +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46"/>
            <p:cNvSpPr/>
            <p:nvPr/>
          </p:nvSpPr>
          <p:spPr>
            <a:xfrm>
              <a:off x="6084720" y="342864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ОО «Бета +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9247"/>
            <p:cNvSpPr/>
            <p:nvPr/>
          </p:nvSpPr>
          <p:spPr>
            <a:xfrm>
              <a:off x="6084720" y="450864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ОО «Гамма +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68360" y="5373720"/>
            <a:ext cx="3124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с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5373720"/>
            <a:ext cx="216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уд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373720"/>
            <a:ext cx="216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 какого объекта учета, в балансе,  входит готовая проду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308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ЗАПА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1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411280" y="1125000"/>
            <a:ext cx="64008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ют размер Дебиторской задолжен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556000" y="2781360"/>
            <a:ext cx="6263640" cy="4076640"/>
            <a:chOff x="2556000" y="2781360"/>
            <a:chExt cx="6263640" cy="4076640"/>
          </a:xfrm>
        </p:grpSpPr>
        <p:sp>
          <p:nvSpPr>
            <p:cNvPr id="318" name=""/>
            <p:cNvSpPr/>
            <p:nvPr/>
          </p:nvSpPr>
          <p:spPr>
            <a:xfrm>
              <a:off x="4802400" y="2781360"/>
              <a:ext cx="1976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АКТ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rcRect l="10830" t="9262" r="31243" b="28297"/>
            <a:stretch/>
          </p:blipFill>
          <p:spPr>
            <a:xfrm>
              <a:off x="2715120" y="3429000"/>
              <a:ext cx="6104520" cy="33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556000" y="3645000"/>
              <a:ext cx="433188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5200" y="6354720"/>
              <a:ext cx="43322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2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484360" y="1125360"/>
            <a:ext cx="6400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разделе ПАССИВА баланса отражается кредит сроком на 5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843280" y="2852640"/>
            <a:ext cx="5905440" cy="3814920"/>
            <a:chOff x="2843280" y="2852640"/>
            <a:chExt cx="5905440" cy="381492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rcRect l="10744" t="9070" r="30715" b="18494"/>
            <a:stretch/>
          </p:blipFill>
          <p:spPr>
            <a:xfrm>
              <a:off x="2843280" y="3573360"/>
              <a:ext cx="5788080" cy="30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276720" y="378936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3640" y="530064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6360" y="2852640"/>
              <a:ext cx="5832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Долгосрочные обязатель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3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411280" y="105264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ь объект уче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числена заработная плата работникам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11280" y="2852640"/>
            <a:ext cx="6732720" cy="4005360"/>
            <a:chOff x="2411280" y="2852640"/>
            <a:chExt cx="6732720" cy="4005360"/>
          </a:xfrm>
        </p:grpSpPr>
        <p:pic>
          <p:nvPicPr>
            <p:cNvPr id="340" name="" descr="&amp;Rcy;&amp;acy;&amp;bcy;&amp;ocy;&amp;tcy;&amp;ocy;&amp;dcy;&amp;acy;&amp;tcy;&amp;iecy;&amp;lcy;&amp;icy; &amp;zcy;&amp;acy;&amp;dcy;&amp;ocy;&amp;lcy;&amp;zhcy;&amp;acy;&amp;lcy;&amp;icy; &amp;kcy;&amp;acy;&amp;lcy;&amp;ucy;&amp;zhcy;&amp;acy;&amp;ncy;&amp;acy;&amp;mcy; 89 &amp;mcy;&amp;icy;&amp;lcy;&amp;lcy;&amp;icy;&amp;ocy;&amp;ncy;&amp;ocy;&amp;vcy; &amp;rcy;&amp;ucy;&amp;bcy;&amp;lcy;&amp;iecy;&amp;jcy;"/>
            <p:cNvPicPr/>
            <p:nvPr/>
          </p:nvPicPr>
          <p:blipFill>
            <a:blip r:embed="rId2"/>
            <a:stretch/>
          </p:blipFill>
          <p:spPr>
            <a:xfrm>
              <a:off x="5543640" y="4157640"/>
              <a:ext cx="36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411280" y="2852640"/>
              <a:ext cx="655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Кред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долг подлежащий опла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4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484360" y="119664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 какого объекта учета входят наличные деньги в кассе предпри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8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95640" y="3429000"/>
            <a:ext cx="6948360" cy="3024360"/>
            <a:chOff x="2195640" y="3429000"/>
            <a:chExt cx="6948360" cy="302436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rcRect l="10830" t="56614" r="31254" b="18159"/>
            <a:stretch/>
          </p:blipFill>
          <p:spPr>
            <a:xfrm>
              <a:off x="2195640" y="4149720"/>
              <a:ext cx="694836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411280" y="5877000"/>
              <a:ext cx="3961080" cy="554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35280" y="3429000"/>
              <a:ext cx="4149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Денежные сред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5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484360" y="98064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ются расходы на капитальное строитель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9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484360" y="2781360"/>
            <a:ext cx="6335640" cy="3816360"/>
            <a:chOff x="2484360" y="2781360"/>
            <a:chExt cx="6335640" cy="3816360"/>
          </a:xfrm>
        </p:grpSpPr>
        <p:sp>
          <p:nvSpPr>
            <p:cNvPr id="359" name=""/>
            <p:cNvSpPr/>
            <p:nvPr/>
          </p:nvSpPr>
          <p:spPr>
            <a:xfrm>
              <a:off x="4802040" y="2781360"/>
              <a:ext cx="1976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АКТ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rcRect l="10830" t="9262" r="31243" b="44759"/>
            <a:stretch/>
          </p:blipFill>
          <p:spPr>
            <a:xfrm>
              <a:off x="2714760" y="3429000"/>
              <a:ext cx="61052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556000" y="3645000"/>
              <a:ext cx="43322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84360" y="6093000"/>
              <a:ext cx="4332240" cy="431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6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остав какого объекта учета, в балансе,  входят расходы будущих перио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370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ЗАПА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7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УКЦИО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341360"/>
            <a:ext cx="6552720" cy="3602160"/>
            <a:chOff x="2590920" y="1341360"/>
            <a:chExt cx="6552720" cy="3602160"/>
          </a:xfrm>
        </p:grpSpPr>
        <p:sp>
          <p:nvSpPr>
            <p:cNvPr id="110" name=""/>
            <p:cNvSpPr/>
            <p:nvPr/>
          </p:nvSpPr>
          <p:spPr>
            <a:xfrm>
              <a:off x="4967280" y="134136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cbb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Открыт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34136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100000">
                  <a:srgbClr val="e0c3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2" action="ppaction://hlinksldjump"/>
                </a:rPr>
                <a:t>ПЕРВ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3" action="ppaction://hlinksldjump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265896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100000">
                  <a:srgbClr val="ddbd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4" action="ppaction://hlinksldjump"/>
                </a:rPr>
                <a:t>ВТОР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5" action="ppaction://hlinksldjump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0920" y="400680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50000">
                  <a:srgbClr val="ddbdfa"/>
                </a:gs>
                <a:gs pos="100000">
                  <a:srgbClr val="c58bf9">
                    <a:alpha val="50196"/>
                  </a:srgbClr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ТРЕТ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99280" y="134136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крет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пр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67280" y="270972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fc0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Полузакрыт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9280" y="270972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400680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bb8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Закрыт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99280" y="400680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мер л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84360" y="52430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Аукцион (продажа с молотка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 это публичная распродажа, при которой покупателем становится тот, кто предложит более высокую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ПЕРВЫ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119700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1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алю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а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651640" y="119664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Итоговые значе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актива и пассив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балан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213372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2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Основ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овое равен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651640" y="213372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Активы = Капитал + </a:t>
            </a:r>
            <a:br>
              <a:rPr sz="1700"/>
            </a:b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Обязательст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306864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3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т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ухгалтер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а – это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5651640" y="306864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Это показатель акти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или пассива баланс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характеризующий стоимость отдель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видов имущества, источни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его формир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076640"/>
            <a:ext cx="3311640" cy="79236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4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етто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5651640" y="4076280"/>
            <a:ext cx="3311280" cy="79236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Это баланс, включающий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себя регулирующие стат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01336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5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Реформ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5651640" y="501336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Это баланс, в котором прибыл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отчетного периода не отражается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так как уже распределе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95008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Т 6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Период, за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ляется теку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балан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651640" y="595008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Квартал, полугодие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9 месяце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3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ТОРО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280" y="981000"/>
            <a:ext cx="2205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од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68360" y="1844640"/>
            <a:ext cx="6839280" cy="3849840"/>
            <a:chOff x="2268360" y="1844640"/>
            <a:chExt cx="6839280" cy="3849840"/>
          </a:xfrm>
        </p:grpSpPr>
        <p:sp>
          <p:nvSpPr>
            <p:cNvPr id="140" name=""/>
            <p:cNvSpPr/>
            <p:nvPr/>
          </p:nvSpPr>
          <p:spPr>
            <a:xfrm>
              <a:off x="226836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АКТИ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564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ПАССИ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436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Операции, н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влия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на В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5164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Операци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влия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на В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728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6" action="ppaction://hlinksldjump"/>
                </a:rPr>
                <a:t>ЛО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2728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7" action="ppaction://hlinksldjump"/>
                </a:rPr>
                <a:t>ЛОТ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27280" y="508464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8" action="ppaction://hlinksldjump"/>
                </a:rPr>
                <a:t>ЛОТ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764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9" action="ppaction://hlinksldjump"/>
                </a:rPr>
                <a:t>ЛОТ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764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0" action="ppaction://hlinksldjump"/>
                </a:rPr>
                <a:t>ЛО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472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1" action="ppaction://hlinksldjump"/>
                </a:rPr>
                <a:t>ЛОТ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472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2" action="ppaction://hlinksldjump"/>
                </a:rPr>
                <a:t>ЛОТ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12000" y="501336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3" action="ppaction://hlinksldjump"/>
                </a:rPr>
                <a:t>ЛОТ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4" action="ppaction://hlinksldjump"/>
                </a:rPr>
                <a:t>ЛОТ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1200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5" action="ppaction://hlinksldjump"/>
                </a:rPr>
                <a:t>ЛОТ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6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бъекты относятся к 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5640" y="3213000"/>
            <a:ext cx="6948360" cy="3645000"/>
            <a:chOff x="2195640" y="3213000"/>
            <a:chExt cx="6948360" cy="3645000"/>
          </a:xfrm>
        </p:grpSpPr>
        <p:pic>
          <p:nvPicPr>
            <p:cNvPr id="158" name="" descr="Картинки по запросу основные средства картинки"/>
            <p:cNvPicPr/>
            <p:nvPr/>
          </p:nvPicPr>
          <p:blipFill>
            <a:blip r:embed="rId2"/>
            <a:stretch/>
          </p:blipFill>
          <p:spPr>
            <a:xfrm>
              <a:off x="4140360" y="3213000"/>
              <a:ext cx="23810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Картинки по запросу основные средства картинки"/>
            <p:cNvPicPr/>
            <p:nvPr/>
          </p:nvPicPr>
          <p:blipFill>
            <a:blip r:embed="rId3"/>
            <a:stretch/>
          </p:blipFill>
          <p:spPr>
            <a:xfrm>
              <a:off x="6477120" y="3213000"/>
              <a:ext cx="266688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0" t="0" r="11822" b="25231"/>
            <a:stretch/>
          </p:blipFill>
          <p:spPr>
            <a:xfrm>
              <a:off x="4427640" y="5122800"/>
              <a:ext cx="471636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Картинки по запросу компьютеры картинки"/>
            <p:cNvPicPr/>
            <p:nvPr/>
          </p:nvPicPr>
          <p:blipFill>
            <a:blip r:embed="rId5"/>
            <a:stretch/>
          </p:blipFill>
          <p:spPr>
            <a:xfrm>
              <a:off x="2195640" y="3213000"/>
              <a:ext cx="2552400" cy="17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6"/>
            <a:stretch/>
          </p:blipFill>
          <p:spPr>
            <a:xfrm>
              <a:off x="2195640" y="4915080"/>
              <a:ext cx="2520720" cy="194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>
            <a:hlinkClick r:id="rId7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6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биторская задолженность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11280" y="3141720"/>
            <a:ext cx="6553440" cy="3716280"/>
            <a:chOff x="2411280" y="3141720"/>
            <a:chExt cx="6553440" cy="3716280"/>
          </a:xfrm>
        </p:grpSpPr>
        <p:sp>
          <p:nvSpPr>
            <p:cNvPr id="170" name=""/>
            <p:cNvSpPr/>
            <p:nvPr/>
          </p:nvSpPr>
          <p:spPr>
            <a:xfrm>
              <a:off x="2411280" y="3141720"/>
              <a:ext cx="655344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Деб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сумма долгов, причитающаяся предприяти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Картинки по запросу дебиторская задолженность картинки"/>
            <p:cNvPicPr/>
            <p:nvPr/>
          </p:nvPicPr>
          <p:blipFill>
            <a:blip r:embed="rId2"/>
            <a:stretch/>
          </p:blipFill>
          <p:spPr>
            <a:xfrm>
              <a:off x="3635280" y="4565520"/>
              <a:ext cx="3033720" cy="22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7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авершенное производство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9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340000" y="2852640"/>
            <a:ext cx="6804000" cy="4005360"/>
            <a:chOff x="2340000" y="2852640"/>
            <a:chExt cx="6804000" cy="40053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2340000" y="4869000"/>
              <a:ext cx="2592360" cy="19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4932360" y="4869000"/>
              <a:ext cx="421164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92280" y="2852640"/>
              <a:ext cx="6400800" cy="19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9966ff"/>
                  </a:solidFill>
                  <a:latin typeface="Arial"/>
                </a:rPr>
                <a:t>Незавершенное производств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– это незаконченная продукция, находящаяся на различных стадиях производственного процесс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8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чет какого капитала формируется Р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АСС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333520" y="2276640"/>
            <a:ext cx="6810480" cy="4581360"/>
            <a:chOff x="2333520" y="2276640"/>
            <a:chExt cx="6810480" cy="45813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2333520" y="3048120"/>
              <a:ext cx="68104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373560" y="2276640"/>
              <a:ext cx="4438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УСТАВНОЙ КАПИТА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92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8:47:17Z</dcterms:created>
  <dc:creator>golubeva</dc:creator>
  <dc:description/>
  <dc:language>en-US</dc:language>
  <cp:lastModifiedBy>марина михайловна</cp:lastModifiedBy>
  <dcterms:modified xsi:type="dcterms:W3CDTF">2015-11-06T07:50:34Z</dcterms:modified>
  <cp:revision>16</cp:revision>
  <dc:subject/>
  <dc:title>Деловая игра «Аукцион»</dc:title>
</cp:coreProperties>
</file>